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7858"/>
        <c:axId val="82202044"/>
      </c:barChart>
      <c:catAx>
        <c:axId val="98977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02044"/>
        <c:crosses val="autoZero"/>
        <c:auto val="1"/>
        <c:lblAlgn val="ctr"/>
        <c:lblOffset val="100"/>
        <c:noMultiLvlLbl val="0"/>
      </c:catAx>
      <c:valAx>
        <c:axId val="82202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7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731-9B5C-4454-8FB9-A7DEEF22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69B-5669-40F8-9D38-8E72C2B9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8E0-E48D-4B98-9194-14E819AF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AAF-0BE9-4F2B-824D-C0C0A13D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A2A-B9D5-43B5-917E-BDF36822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E39-1B0A-426E-BABF-9472436C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D9E-B013-4E98-9E75-5ABA4D1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49A-FDF2-4AFA-984A-BFAE3FE4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663-26D9-43A6-9CDE-D91CDCB8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306-A713-471E-859E-3C6C924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373-C517-4413-85EC-D86485D3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17D-3CC5-4CCC-AAFB-17966D9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106C7-66B8-43EB-A96D-B0ED49932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