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64081"/>
        <c:axId val="18821224"/>
      </c:barChart>
      <c:catAx>
        <c:axId val="75864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21224"/>
        <c:crosses val="autoZero"/>
        <c:auto val="1"/>
        <c:lblAlgn val="ctr"/>
        <c:lblOffset val="100"/>
        <c:noMultiLvlLbl val="0"/>
      </c:catAx>
      <c:valAx>
        <c:axId val="18821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64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510-25DD-46E2-8A9D-B15BF9D7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802-D58D-4554-AA25-91875BF0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E80-DCF5-4DD2-9616-41A00CF6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850-077C-43F2-AB28-1C0BAC5B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799-92DF-49BD-9010-EE4A7E48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878F-0137-4164-ACA2-6C76DDE0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42F-BFCB-4061-88EC-1226BA67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5C8-1B6B-4F29-9402-36BC22C5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67B-A2A2-448E-A6F7-262AE173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0C1-A7D9-4501-B56B-9EF391D6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320-2196-48FA-8E26-421A295B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A34A-6370-4368-89DB-8C4ED286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B738C-4B5A-4F7B-BCB9-809AD1A8F9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